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CDB-B664-48C2-A6FD-EDA77490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A962-3EA6-46DC-9FDB-9DE84152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F6E9-2EC4-4126-8C60-F11518CA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E0D7-171B-49C7-BC98-D5251219C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07AF-B26C-4670-9FD6-0DD3067C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8B7-F5E3-4511-80CC-8BD856D0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D9A-EC83-4C8F-9BA1-F4B0B61B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13E2-4810-4981-8A44-AB07E3E0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44D-4899-46EE-8EDC-C95C9054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4F4-1FD8-4CBB-9E1C-7F3692F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8876-A663-423D-9956-1F82625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9A2-9C45-4120-9A4E-062E2A02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AB15-4026-471C-B9BB-41C4B1D4C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Improving home energy performance"/>
          <p:cNvPicPr/>
          <p:nvPr/>
        </p:nvPicPr>
        <p:blipFill>
          <a:blip r:embed="rId1"/>
          <a:stretch/>
        </p:blipFill>
        <p:spPr>
          <a:xfrm>
            <a:off x="2438280" y="1219320"/>
            <a:ext cx="33339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13:51:29Z</dcterms:created>
  <dc:creator>HISD</dc:creator>
  <dc:description/>
  <dc:language>en-US</dc:language>
  <cp:lastModifiedBy>HISD</cp:lastModifiedBy>
  <dcterms:modified xsi:type="dcterms:W3CDTF">2013-06-03T14:00:01Z</dcterms:modified>
  <cp:revision>1</cp:revision>
  <dc:subject/>
  <dc:title>Slide 1</dc:title>
</cp:coreProperties>
</file>